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3.pct" ContentType="image/x-pict"/>
  <Override PartName="/ppt/media/image8.pct" ContentType="image/x-pict"/>
  <Override PartName="/ppt/media/image17.pct" ContentType="image/x-pict"/>
  <Override PartName="/ppt/media/image15.pct" ContentType="image/x-pict"/>
  <Override PartName="/ppt/media/image14.jpeg" ContentType="image/jpeg"/>
  <Override PartName="/ppt/media/image19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12.jpeg" ContentType="image/jpeg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10.jpeg" ContentType="image/jpeg"/>
  <Override PartName="/ppt/media/image16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09B7-63C7-42F1-B5E9-8F4FCE69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27C-1CE8-46B6-9FF1-DDEFAB8B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36E9-C7E4-4AFC-85E4-9791EFE0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D0A-8685-4567-999C-F5DB1C5B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DF9-BF6F-4492-B5ED-E62D3B8D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E01A-38A3-44BA-9565-3AA8EE92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0E4C-20FF-457B-95DE-43636F57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DD3D-DE5D-46C7-9468-880D9938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9B54-F9E2-48FA-9B75-6EE42FC1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3BD-73F5-4B36-B711-AACEA8CF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AD7-D9E5-4932-A2B1-BF0B5A9D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87A9-B991-4C3F-9730-718B074A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B4A1-598D-4E06-BAE0-CAB70E0CA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b/b0/MtRushmore_TR_clos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b/bd/TAFT1909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ct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essiv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ddy Roosev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Howard T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row Wil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Image:MtRushmore TR clos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0"/>
            <a:ext cx="5541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essiv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ring about reforms to make better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y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afe working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upt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air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5120" y="0"/>
            <a:ext cx="555948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8290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ere They Going to Change Amer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government to a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e big busi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welfar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people to hel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e Addams of Hull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903320"/>
            <a:ext cx="7772400" cy="4954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5943600" cy="4770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Welfare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you live if you have un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you get money if you had an ac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you health 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you to have a basic standard of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ddy Roosev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 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Mine Workers str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and Drug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big, powerful busi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stone, Grand Can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25560"/>
            <a:ext cx="6553440" cy="6832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981080" y="-61920"/>
            <a:ext cx="7162920" cy="6919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iam Howard T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ed by 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d anti-trust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ed progressive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Image:TAFT19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7480" y="0"/>
            <a:ext cx="518652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919080" y="1981080"/>
            <a:ext cx="33418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odrow Wil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 because the Republican Party was spl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the Federal Reserv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d banking in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405432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4784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600200" y="0"/>
            <a:ext cx="59324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733920" y="1447920"/>
            <a:ext cx="311616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21:16:13Z</dcterms:created>
  <dc:creator>Buffalo Grove High School</dc:creator>
  <dc:description/>
  <dc:language>en-US</dc:language>
  <cp:lastModifiedBy>Buffalo Grove High School</cp:lastModifiedBy>
  <dcterms:modified xsi:type="dcterms:W3CDTF">2008-01-30T23:51:48Z</dcterms:modified>
  <cp:revision>4</cp:revision>
  <dc:subject/>
  <dc:title>Progressive Measures</dc:title>
</cp:coreProperties>
</file>